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45D3-0F43-4C98-A3F7-AD6F02B0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88DA-E17B-4986-87E3-6FEF4EF6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075B-352A-41FD-A291-820BF6F42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7946-9FA9-41B9-9464-4708B06A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893A4-68F1-4D12-9029-C7D778EC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28210-2CC6-4370-B770-E16D3A4B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9F621-3BE4-4183-8BCD-436FB5D2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02DB2-1798-4CAD-9CDC-7BA2BD28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C60EA-3C94-47D3-B258-E0EF30A1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84689-CB12-4FF9-B7E8-03295DB7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4E6EA-4CA4-4C54-82C2-2C9A1A67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C6D3-B410-4A47-80FF-1FF24017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4C82C-D635-4F59-8CD9-E17AD3E0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662D4-B526-4D96-9494-44F95F22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36417-84F2-49F4-93DE-FFFE6DD5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65732-390B-4A77-9EA0-3CE484467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19A27-A676-46DB-A9C9-0D3A8CAB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CF79-0F33-433E-9810-D1613813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B318-713F-4EA3-BDE2-776EC75B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1213-C848-4C40-B1F5-1214F118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3545-AA60-4FCF-A808-45020AAD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0A75-9EB2-4E7F-9625-6AA8A108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4C0A-2699-4FDD-A70C-0775A495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F3A7-CE72-4F98-A6C7-D50B6977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F261-C4D5-4C1C-9CAD-73168826F959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1AC6-117C-4F44-8B47-CAE8C79F40EE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IALA ANM 16 – Rapporteur Report </a:t>
            </a:r>
            <a:br>
              <a:rPr sz="3200"/>
            </a:b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Agenda item 5.4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Development of e-Navigation within AtoN Author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Gerry Br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Manager Aids to Navigation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Australian maritime safety Authorit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6856560" y="40464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-NAV10/7/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e-Navigation Underway” Conference outc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10920" y="1773000"/>
            <a:ext cx="806436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e-Navigation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eed for standards &amp; regul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Value of e-navigation test be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Bridge solu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User centr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Value of discussion foru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83664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Outline of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03280" y="1915920"/>
            <a:ext cx="6624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-Navigation Architecture – the shore-based perspectiv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roposed IMO Common Maritime Data Structure incl AtoN information standar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-Nav developments in member count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-Navigation Underway” Conference outco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7699320" cy="216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nformation Paper on the draft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ALA Recommendation e-NAV 140 on the e-Navigation Architecture – the shore-based perspective (Ed 2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55280" y="3141720"/>
            <a:ext cx="7993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is document establishes relevant principles for a shore-based system architecture harmonized for e-Navigation.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619280" y="47628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-Navigation - shipboard, shore-based and links in-between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1403280" y="1916280"/>
            <a:ext cx="2720880" cy="2164680"/>
            <a:chOff x="1403280" y="1916280"/>
            <a:chExt cx="2720880" cy="2164680"/>
          </a:xfrm>
        </p:grpSpPr>
        <p:sp>
          <p:nvSpPr>
            <p:cNvPr id="92" name="Text Box 6"/>
            <p:cNvSpPr/>
            <p:nvPr/>
          </p:nvSpPr>
          <p:spPr>
            <a:xfrm>
              <a:off x="1403280" y="3253320"/>
              <a:ext cx="2720880" cy="8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aphicFrame>
          <p:nvGraphicFramePr>
            <p:cNvPr id="93" name="Object 5"/>
            <p:cNvGraphicFramePr/>
            <p:nvPr/>
          </p:nvGraphicFramePr>
          <p:xfrm>
            <a:off x="1735560" y="1916280"/>
            <a:ext cx="1588320" cy="1422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35560" y="1916280"/>
                      <a:ext cx="1588320" cy="142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5" name="Oval 9"/>
          <p:cNvSpPr/>
          <p:nvPr/>
        </p:nvSpPr>
        <p:spPr>
          <a:xfrm>
            <a:off x="5940360" y="1773360"/>
            <a:ext cx="1989360" cy="1989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6" name="Object 10"/>
          <p:cNvGraphicFramePr/>
          <p:nvPr/>
        </p:nvGraphicFramePr>
        <p:xfrm>
          <a:off x="6227640" y="1916280"/>
          <a:ext cx="1455840" cy="164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27640" y="1916280"/>
                    <a:ext cx="145584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12"/>
          <p:cNvSpPr/>
          <p:nvPr/>
        </p:nvSpPr>
        <p:spPr>
          <a:xfrm>
            <a:off x="4356000" y="1844640"/>
            <a:ext cx="747720" cy="2008080"/>
          </a:xfrm>
          <a:prstGeom prst="rect">
            <a:avLst/>
          </a:prstGeom>
          <a:gradFill rotWithShape="0">
            <a:gsLst>
              <a:gs pos="0">
                <a:srgbClr val="aa3039"/>
              </a:gs>
              <a:gs pos="100000">
                <a:srgbClr val="f9432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9" name="Object 8"/>
          <p:cNvGraphicFramePr/>
          <p:nvPr/>
        </p:nvGraphicFramePr>
        <p:xfrm>
          <a:off x="3995640" y="1989000"/>
          <a:ext cx="1352520" cy="1197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0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95640" y="1989000"/>
                    <a:ext cx="13525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13"/>
          <p:cNvSpPr/>
          <p:nvPr/>
        </p:nvSpPr>
        <p:spPr>
          <a:xfrm>
            <a:off x="1258920" y="4292640"/>
            <a:ext cx="21686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onbo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5796000" y="4292640"/>
            <a:ext cx="21686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 </a:t>
            </a: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ashore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784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verarching e-Navigation architecture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14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Object 5"/>
          <p:cNvGraphicFramePr/>
          <p:nvPr/>
        </p:nvGraphicFramePr>
        <p:xfrm>
          <a:off x="611280" y="1413000"/>
          <a:ext cx="7956360" cy="52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7956360" cy="52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506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The e-Navigation architecture with a focus on the shore-side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HO GI Registry, including the IALA dom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69780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Current and planned e-Navigation developments by IALA memb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6920" y="1773000"/>
            <a:ext cx="7777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ustralia has established an e-Navigation consultation group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n 2010-11, the Canadian Coast Guard prepared an e-Navigation vision/strategy with input from industry stakeholders (still a draf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reland are well advanced on AIS with 19 buoys and 10 lighthouses fitted - will roll out a total of 64 AIS AtoN in the next 2 year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Norwegian Branch of the Nautical Institute held a seminar October 2010 – Lee Alexander was a key presenter and emphasised the need for mariners too define user requir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Thanks for your atten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5:05:19Z</dcterms:created>
  <dc:creator>gpb</dc:creator>
  <dc:description/>
  <dc:language>en-US</dc:language>
  <cp:lastModifiedBy>Mike Hadley</cp:lastModifiedBy>
  <dcterms:modified xsi:type="dcterms:W3CDTF">2011-06-17T08:08:33Z</dcterms:modified>
  <cp:revision>22</cp:revision>
  <dc:subject/>
  <dc:title>Slide 1</dc:title>
</cp:coreProperties>
</file>